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F638-9E6D-461C-BE0E-97F8EF72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00A9-4164-4FCE-BE91-491CC46D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A785-1C71-419C-B003-04E18D5D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1646-2584-41AF-91DC-76C379887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0920-7D76-4942-8AD9-26E1E9C0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185C-CDC7-44B0-AC8E-141A43E2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CC7D-FFCB-4D92-8B23-0BFD9698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412B-9551-4ACB-BA97-DB3FFA2B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9CEC-C347-4B0A-94FF-CC2DB021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6627-951B-419F-9E80-10035F68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C909-90BB-4FD1-BF45-16A3DAB1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5BC3-3C9B-4C09-B658-AB8E2E9F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5BEB-F8DF-4BA0-BF98-DA5B4AFE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7F3C-22F8-4F07-8FE6-166CC95F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D869-46D5-4C8C-8E1B-B9B88B04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046A-6411-4D31-81DD-8A4C3CF5E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F714-488D-40ED-BCFA-702B2C6C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1E22-15E4-4618-87D0-233AA561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D77E-DA3B-4AA8-AB04-2C25FDA8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77C1-6C47-4C5D-ACC0-7E0EC567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8C4E-622C-4E1A-81E3-441CC296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9CC1-E230-432C-831E-A56FBACE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88E4-396F-49E2-88CE-E0FB96A4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1657-277B-48EF-8C85-EF68DF77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D6C3-98DA-4FD4-99EC-0E3CFE519D2E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9E49-D216-489F-AACD-8A012AA97A1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roblem Solv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by Ana Selb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2 - Decide how you’re going to solve the problem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Choose a metho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Use a graph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Use formula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Write an equation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Make a list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Find a pattern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Work backward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Use reasoning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Draw a pictur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Make a table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Act it out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2971800"/>
            <a:ext cx="3810240" cy="609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2 - Decide how you’re going to solve the problem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Write your eq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4190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Since I know both weeks total 31 I writ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14 + s = 31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6560" y="2514600"/>
            <a:ext cx="272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Total = 31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28840" y="2514600"/>
            <a:ext cx="34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st week =14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8120" y="327672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2nd week = 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2 - Decide how you’re going to solve the problem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Write your eq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4190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 can use the inverse operation to solve for 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14 + s = 31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     31 – 14 = 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6560" y="2514600"/>
            <a:ext cx="272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Total = 31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28840" y="2514600"/>
            <a:ext cx="34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st week =14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327672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2nd week = 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blem Solving is easy if you follow these ste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867280" cy="51055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581280" y="2895480"/>
            <a:ext cx="3173400" cy="28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lv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Step 3 - Solve the problem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3 1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20916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– </a:t>
            </a: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1 4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560" y="2133720"/>
            <a:ext cx="272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Total = 31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28840" y="2133720"/>
            <a:ext cx="34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st week =14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8120" y="289548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2nd week = 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05320" y="5791320"/>
            <a:ext cx="19047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14800" y="4267080"/>
            <a:ext cx="457200" cy="685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1120" y="350532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97120" y="4267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3800" y="58514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40280" y="58514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blem Solving is easy if you follow these ste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867280" cy="5105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581280" y="2971800"/>
            <a:ext cx="3173400" cy="28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ok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ack &amp;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4 - Look Back &amp; Check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Reread the proble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uis earned 14 Accelerated Reading points the first week of November. At the end of the following week he had a total of 31 points.  How many points did he earn the second week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1981080"/>
            <a:ext cx="76212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4419720"/>
            <a:ext cx="76176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8840" y="5638680"/>
            <a:ext cx="272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Total = 31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360" y="5638680"/>
            <a:ext cx="34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st week =14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4 - Look Back &amp; Check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Substitute your new numb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uis earned 14 Accelerated Reading points the first week of November. At the end of the following week he had a total of 31 points.  How many points did he earn the second week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1600200"/>
            <a:ext cx="76212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3733920"/>
            <a:ext cx="76212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97440" y="4952880"/>
            <a:ext cx="272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Total = 31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67080" y="5029200"/>
            <a:ext cx="34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st week =14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90920" y="5729400"/>
            <a:ext cx="379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2nd week = 17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4 - Look Back &amp; Check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Substitute your new numb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uis earned 14 Accelerated Reading points the first week of November. At the end of the following week he had a total of 31 points.  How many points did he earn the second week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1600200"/>
            <a:ext cx="76212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66680" y="3733920"/>
            <a:ext cx="76212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6400" y="5105520"/>
            <a:ext cx="408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14 + </a:t>
            </a:r>
            <a:r>
              <a:rPr b="0" lang="en-US" sz="6000" spc="-1" strike="noStrike" u="sng">
                <a:solidFill>
                  <a:srgbClr val="ff0000"/>
                </a:solidFill>
                <a:uFillTx/>
                <a:latin typeface="Times New Roman"/>
              </a:rPr>
              <a:t>17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= 31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4 - Look Back &amp; Check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Did your new number wor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uis earned 14 Accelerated Reading points the first week of November. At the end of the following week he had a total of 31 points.  How many points did he earn the second week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1600200"/>
            <a:ext cx="76212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3733920"/>
            <a:ext cx="76212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78320" y="5105520"/>
            <a:ext cx="408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14 + </a:t>
            </a:r>
            <a:r>
              <a:rPr b="0" lang="en-US" sz="6000" spc="-1" strike="noStrike" u="sng">
                <a:solidFill>
                  <a:srgbClr val="ff0000"/>
                </a:solidFill>
                <a:uFillTx/>
                <a:latin typeface="Times New Roman"/>
              </a:rPr>
              <a:t>17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= 31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7320" y="5029200"/>
            <a:ext cx="16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Yes!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blem Solving is easy if you follow these ste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867280" cy="51055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581280" y="2895480"/>
            <a:ext cx="3173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derstan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rite an equation to solve this proble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Jaylynn had $84.75 in her savings account.  She made a deposit.  Her new balance was $107.03.  How much was her deposit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06920" y="4419720"/>
            <a:ext cx="544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$84.75 + d = $107.03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4952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nverse operation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$107.03 – $84.75 = d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rite an equation to solve this proble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Anthony has twice as many pokemon cards as Joshua.  If Anthony has 124 cards, how many does Joshua have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99120" y="4419720"/>
            <a:ext cx="60282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2 x d = 124      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2d = 124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5105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nverse operation   d = 124/2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rite an equation to solve this proble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Vicki baked 90 cookies .  If there are 15 cookies in each batch.  How many batches did she bake?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00200" y="4419720"/>
            <a:ext cx="602604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15 x b = 90      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15b = 90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5105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nverse operation   b = 90/15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rite an equation to solve this proble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Navneet has 3 times as many CD’s as Arlene.  If Navneet has 36 CD’s, how many does Arlene have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4419720"/>
            <a:ext cx="60260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3 x c = 36      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3c  = 36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5105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nverse operation   c = 36/3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rite an equation to solve this proble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A square has a perimeter of 48 inches. What is the length of each side of the square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4038480"/>
            <a:ext cx="57913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4 x s = 48     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4s  = 48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50292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nverse operation   s = 48/4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rite an equation to solve this proble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One year the city ambulance responded to emergencies on 293 days.  How many days were there no emergencies?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43200" y="434340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293 + d = 365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52578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nverse operation   d = 365 - 293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part from Broderbund   ClickArt 125,000 Deluxe Image Pa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part from Corel Gallery by Corel Corp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tep 1 – Understand the problem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Times New Roman"/>
              </a:rPr>
              <a:t>Read the problem  and identify the question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Times New Roman"/>
              </a:rPr>
              <a:t>Map a solutio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Times New Roman"/>
              </a:rPr>
              <a:t>Underline important information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Times New Roman"/>
              </a:rPr>
              <a:t>Predict your answer (what it’ll look like)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1 - Understand the Problem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Read the problem carefully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uis earned 14 Accelerated Reading points the first week of November. At the end of the following week he had a total of 31 points.  How many points did he earn the second week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1 - Understand the Problem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Find the important informatio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uis earned 14 Accelerated Reading points the first week of November. At the end of the following week he had a total of 31 points.  How many points did he earn the second week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2057400"/>
            <a:ext cx="76212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4724280"/>
            <a:ext cx="76176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1 - Understand the Problem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Write down the number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uis earned 14 Accelerated Reading points the first week of November. At the end of the following week he had a total of 31 points.  How many points did he earn the second week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1981080"/>
            <a:ext cx="76212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4419720"/>
            <a:ext cx="76176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8840" y="5638680"/>
            <a:ext cx="272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Total = 31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9360" y="5638680"/>
            <a:ext cx="34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st week =14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1 - Understand the Problem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Identify what the problem wants you to solv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uis earned 14 Accelerated Reading points the first week of November. At the end of the following week he had a total of 31 points. 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How many points did he earn the second week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9880" y="1905120"/>
            <a:ext cx="76212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4038480"/>
            <a:ext cx="76176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2880" y="5181480"/>
            <a:ext cx="272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Total = 31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19360" y="5181480"/>
            <a:ext cx="34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st week =14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579132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2nd week = 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1 - Understand the Problem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Ask if your answer is going to be a larger or smaller number compared to what you already know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40240" y="2819520"/>
            <a:ext cx="272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Total = 31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24280" y="2819520"/>
            <a:ext cx="34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st week =14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19520" y="358128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2nd week = 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4419720"/>
            <a:ext cx="8534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t will be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smaller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than the total but may or may not be smaller than the first week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blem Solving is easy if you follow these ste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867280" cy="5105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581280" y="2666880"/>
            <a:ext cx="317340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cide how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’re going to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lve th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oblem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5T15:09:23Z</dcterms:created>
  <dc:creator>Monica/Bob Yuskaitis</dc:creator>
  <dc:description/>
  <dc:language>en-US</dc:language>
  <cp:lastModifiedBy> </cp:lastModifiedBy>
  <dcterms:modified xsi:type="dcterms:W3CDTF">2008-08-05T16:04:43Z</dcterms:modified>
  <cp:revision>6</cp:revision>
  <dc:subject/>
  <dc:title>Problem Solving</dc:title>
</cp:coreProperties>
</file>